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3E443-2081-49C7-AA02-17C4EDC32F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49DF5-DFC3-43A6-9651-9DE9B99B7C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5948D-ED3F-4DDD-BEC4-521EF862E8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94BB8-E0D9-4D1D-9775-89C6D7B00F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D05E49-BED2-4227-9FA4-B493FE81AC5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886B3C-34BD-43D4-A049-693467164DF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E56B3C-DEB3-4A99-A042-00BAFC2B63C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F27112-46A3-4BB3-B23F-43751BB2E5E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2BC8D9-0082-4C0A-853C-49639FBDCDC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93F53C-67C3-483B-941A-A29DEEE922E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BFAD97-9174-4CFB-AB56-0471C17239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A0A30-C7F1-4CEF-AEFA-98DD901BDB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8DD819-84FB-4876-A494-94C9B34CB3C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7F0FBA-6096-49B8-A59B-68C972C0EE1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04BC7A-7C60-417A-9650-74E8C1A742A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D9C5E9-DBEC-412D-A237-3341E96E3CB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6C6548-F9FB-41F5-86DD-2775C63B14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8B31B-37D0-40AD-817E-17BF809763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609BA-5F5D-4D3B-9CB6-27F6BB545D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E1F19-35B5-49F7-B9AD-19A2CB5DFE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A7C13-55CC-497B-9BEF-D0668AF288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FA3B2-2CDA-4100-9117-24F3B1760B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28A3B-FA99-4CF5-896F-C62AB13811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E48BC-630A-4A59-9D1C-EC3ECB67E6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957DD-15E9-4907-A6DF-6117B2997A0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539640" y="5397480"/>
            <a:ext cx="852480" cy="74448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609480" y="1295280"/>
            <a:ext cx="8344080" cy="1162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3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517E9-840E-46BA-B07A-2B518F3E578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39640" y="5397480"/>
            <a:ext cx="852480" cy="7444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09480" y="2590920"/>
            <a:ext cx="8344080" cy="11620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Особенности продвижения региональных сайтов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2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Доклад рассматривает основные аспекты  продвижения региональных сайтов, их отличия от московских ресурсов;  особенности проведения  рекламных кампаний и поисковой оптимизации для региональных сайтов.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Основные инструменты регионального продвижения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812880" indent="-457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онтекстная поисковая реклама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812880" indent="-457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едийная реклама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812880" indent="-457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исковая оптимизация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812880" indent="-457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егиональные каталог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31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Контекстная поисковая реклам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447920" y="2209680"/>
            <a:ext cx="26668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онтекстная поисковая реклама позволяет охватить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всю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целевую аудиторию поисковых систем. Единственной проблемой является невольное соперничество с большим количеством нетагретированных объявлен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067280" y="2205000"/>
            <a:ext cx="4546440" cy="38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Медийная реклам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2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22440" indent="-60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естные региональные ресурсы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22440" indent="-60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рупные баннерные сети с геотаргетинго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22440" indent="-60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рупные порталы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2058840" indent="-533160">
              <a:spcBef>
                <a:spcPts val="45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Яндекс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– минимальный заказ 30 000 рублей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2058840" indent="-533160">
              <a:spcBef>
                <a:spcPts val="45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Рамблер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– минимальный заказ 15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2058840" indent="-533160">
              <a:spcBef>
                <a:spcPts val="45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MAIL.RU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– минимальный заказ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000$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205884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205884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Поисковая оптимизаци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собенност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3556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ложность оценки спрос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3556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егиональный чекбокс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143000" y="2286000"/>
            <a:ext cx="7772400" cy="12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Региональные каталоги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Регистрация сайта в региональных каталогах обязательна, так как посещаемость с них достаточно велика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Вопросы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9:48:41Z</dcterms:created>
  <dc:creator>Minyaev</dc:creator>
  <dc:description/>
  <dc:language>en-US</dc:language>
  <cp:lastModifiedBy>Andrey</cp:lastModifiedBy>
  <dcterms:modified xsi:type="dcterms:W3CDTF">2006-03-14T10:17:46Z</dcterms:modified>
  <cp:revision>34</cp:revision>
  <dc:subject/>
  <dc:title>Слайд 1</dc:title>
</cp:coreProperties>
</file>